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B25F-99AB-45B4-809F-245B6879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DE32-97DC-4208-92BB-0DE90013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data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D973-E023-438A-A2D7-53C598E86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E4E1-7905-4694-B230-36C19DA80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's wrong with these pictu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areful reading of the whole article (buried several pages into the paper) reveals a different stor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The ranking graph covers an 11 year period, the tuition graph 35 years, yet they are shown simultaneously (the same apparent width) on the same horizontal "scale"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The vertical scale for tuition and ranking could not possibly have common units, but the ranking graph is placed under the tuition graph creating the impression that cost exceeds qual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The differing time units are cleverly disguised by printing them rotated 90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And here is the masterstroke: the sharp "drop" in the ranking graph over the past few years actually represents the fact that Cornell's rank has IMPROVED from 15th TO 6th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data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1A11-9780-4149-8D89-001E83A02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6E6-2F1D-4CA7-A436-69CFD45F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D6E-7B19-48A0-9EF6-D2FEE2FA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6FF-F0B3-47A6-8E4C-D8A85E0E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B4D-19C3-4045-899F-9140B0A7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73B7-0EB3-40C4-B4D4-49E55C6E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E99D-989D-44FA-932D-EC235C29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912C-2A91-48B7-82CB-5AF36DE7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D5F4-E0D2-44BF-BE21-4DB85F3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43DA-2810-4279-9F90-12E58477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1447-6C49-44E6-88AD-E5ED3E62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7A80-8F7C-4CFB-A1AB-05F65A32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653-B8F4-4F19-B33D-0CEB7FC8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0F83-7513-4F14-8078-82A3A9DC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B8A7-4402-4103-94DC-43EF077F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591C-61AE-4687-B81D-5A1D8C87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3791-D963-4E21-993A-22085CFC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B837-0088-482A-9295-A2E41CC9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9FCF-9CA4-43B1-9BA5-BBCA976D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805F-5183-42AC-83ED-8261E14D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3734-42A7-49A3-B24F-606BA019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4DBF-2071-41F9-936D-8B854E08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B6CE-FC49-4656-8225-F0D50D3D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092-DC4D-448E-BC24-127AD0C5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8821A-0674-4FC9-A4AE-2DC4A139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3A9D-1EED-482B-8646-E732F52F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C03F1-CDA1-480E-88B4-27A6C832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EB78-C953-4E24-AFF0-06D09D7E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36B7-4205-40DF-B1BF-B9D8B3B5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9FDD-8B2A-4910-A3DE-DD2FB3F6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E1AF-FB4F-4547-B2E5-7A72C5BC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3BC-9C52-4B09-AAE0-B57EED55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E16-1969-41A3-8257-EBB7098E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801-4AB8-4E95-9BB5-F9A1C283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C3D-41D9-4F3C-9288-A91E354C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04F-D13D-4E0A-BE70-D35DF74D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857-09B0-4807-8F72-6B72987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3BD1-2B02-4EBC-84F6-00F8A8196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DA8D-E9E3-45ED-A7B6-35C958F157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F05C-BC63-42D5-8B18-1B4F224BB2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lluminations.nctm.org/ActivityDetail.aspx?ID=16" TargetMode="Externa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29051157128036595"/>
          <p:cNvPicPr/>
          <p:nvPr/>
        </p:nvPicPr>
        <p:blipFill>
          <a:blip r:embed="rId1"/>
          <a:stretch/>
        </p:blipFill>
        <p:spPr>
          <a:xfrm>
            <a:off x="1677960" y="1523880"/>
            <a:ext cx="5810400" cy="4648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205560" y="304920"/>
            <a:ext cx="87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h In The Science Classroo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682640" y="1295280"/>
            <a:ext cx="5800680" cy="5315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7"/>
          <p:cNvSpPr/>
          <p:nvPr/>
        </p:nvSpPr>
        <p:spPr>
          <a:xfrm>
            <a:off x="3581280" y="2525760"/>
            <a:ext cx="33958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8"/>
          <p:cNvGrpSpPr/>
          <p:nvPr/>
        </p:nvGrpSpPr>
        <p:grpSpPr>
          <a:xfrm>
            <a:off x="3886200" y="3068640"/>
            <a:ext cx="2046240" cy="1725120"/>
            <a:chOff x="3886200" y="3068640"/>
            <a:chExt cx="2046240" cy="1725120"/>
          </a:xfrm>
        </p:grpSpPr>
        <p:sp>
          <p:nvSpPr>
            <p:cNvPr id="159" name="Straight Connector 2"/>
            <p:cNvSpPr/>
            <p:nvPr/>
          </p:nvSpPr>
          <p:spPr>
            <a:xfrm flipV="1">
              <a:off x="3886200" y="4441320"/>
              <a:ext cx="82692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13"/>
            <p:cNvSpPr/>
            <p:nvPr/>
          </p:nvSpPr>
          <p:spPr>
            <a:xfrm flipV="1">
              <a:off x="4964040" y="3068640"/>
              <a:ext cx="968400" cy="42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12"/>
            <p:cNvSpPr/>
            <p:nvPr/>
          </p:nvSpPr>
          <p:spPr>
            <a:xfrm flipH="1">
              <a:off x="4712760" y="3497040"/>
              <a:ext cx="252360" cy="9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"/>
          <p:cNvGrpSpPr/>
          <p:nvPr/>
        </p:nvGrpSpPr>
        <p:grpSpPr>
          <a:xfrm>
            <a:off x="3809880" y="2992320"/>
            <a:ext cx="2198880" cy="1878120"/>
            <a:chOff x="3809880" y="2992320"/>
            <a:chExt cx="2198880" cy="1878120"/>
          </a:xfrm>
        </p:grpSpPr>
        <p:sp>
          <p:nvSpPr>
            <p:cNvPr id="163" name="Oval 1"/>
            <p:cNvSpPr/>
            <p:nvPr/>
          </p:nvSpPr>
          <p:spPr>
            <a:xfrm>
              <a:off x="5856480" y="299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889520" y="3481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4637160" y="4365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3809880" y="47181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Straight Connector 5"/>
          <p:cNvSpPr/>
          <p:nvPr/>
        </p:nvSpPr>
        <p:spPr>
          <a:xfrm flipV="1">
            <a:off x="3867120" y="3030480"/>
            <a:ext cx="2122560" cy="17258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4789440" y="1407960"/>
            <a:ext cx="198108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necting the do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reating Useful Graph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520" y="1600200"/>
            <a:ext cx="6782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ype of graph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oice for x and y ax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it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is labels AND uni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cal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Aft>
                <a:spcPts val="60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iformi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Aft>
                <a:spcPts val="60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pace usea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ough points to draw a line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 type of graph should I use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e"/>
                </a:solidFill>
                <a:latin typeface="Tahoma"/>
              </a:rPr>
              <a:t>Line Graph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e"/>
                </a:solidFill>
                <a:latin typeface="Tahoma"/>
              </a:rPr>
              <a:t>Plot related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e"/>
                </a:solidFill>
                <a:latin typeface="Tahoma"/>
              </a:rPr>
              <a:t>Bar Graph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e"/>
                </a:solidFill>
                <a:latin typeface="Tahoma"/>
              </a:rPr>
              <a:t>Emphasize individual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ie Chart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are parts, or percents, of a who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626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ie Chart vs. Bar Grap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113440" y="1635120"/>
            <a:ext cx="3657600" cy="427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12128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5"/>
          <p:cNvSpPr/>
          <p:nvPr/>
        </p:nvSpPr>
        <p:spPr>
          <a:xfrm>
            <a:off x="4800600" y="1635120"/>
            <a:ext cx="0" cy="40798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3886200" y="380880"/>
            <a:ext cx="4648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st Pie Chart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fox-news-piechart"/>
          <p:cNvPicPr/>
          <p:nvPr/>
        </p:nvPicPr>
        <p:blipFill>
          <a:blip r:embed="rId1"/>
          <a:stretch/>
        </p:blipFill>
        <p:spPr>
          <a:xfrm>
            <a:off x="1219320" y="1447920"/>
            <a:ext cx="65624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he Case of the Missing Workers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asur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aph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we need to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ul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we measur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we analyze the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141px-Ulna_ant"/>
          <p:cNvPicPr/>
          <p:nvPr/>
        </p:nvPicPr>
        <p:blipFill>
          <a:blip r:embed="rId1"/>
          <a:stretch/>
        </p:blipFill>
        <p:spPr>
          <a:xfrm>
            <a:off x="7620120" y="838080"/>
            <a:ext cx="1342800" cy="5705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A4ulna"/>
          <p:cNvPicPr/>
          <p:nvPr/>
        </p:nvPicPr>
        <p:blipFill>
          <a:blip r:embed="rId2"/>
          <a:stretch/>
        </p:blipFill>
        <p:spPr>
          <a:xfrm>
            <a:off x="4648320" y="1523880"/>
            <a:ext cx="2449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funny-dog-pictures-a-dog-used-to-the-metric-system-mispercieves-burger-size"/>
          <p:cNvPicPr/>
          <p:nvPr/>
        </p:nvPicPr>
        <p:blipFill>
          <a:blip r:embed="rId1"/>
          <a:stretch/>
        </p:blipFill>
        <p:spPr>
          <a:xfrm>
            <a:off x="1009800" y="1066680"/>
            <a:ext cx="7092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Graphing Difficulties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 is not necessaril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r frie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Graphing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raph Interpretation Problems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Graph vs. pi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lope vs. heigh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connect from data tabl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t Graphing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ithaca1"/>
          <p:cNvPicPr/>
          <p:nvPr/>
        </p:nvPicPr>
        <p:blipFill>
          <a:blip r:embed="rId1"/>
          <a:stretch/>
        </p:blipFill>
        <p:spPr>
          <a:xfrm>
            <a:off x="380880" y="1606680"/>
            <a:ext cx="4023000" cy="5029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ithaca2"/>
          <p:cNvPicPr/>
          <p:nvPr/>
        </p:nvPicPr>
        <p:blipFill>
          <a:blip r:embed="rId2"/>
          <a:stretch/>
        </p:blipFill>
        <p:spPr>
          <a:xfrm>
            <a:off x="4873680" y="152280"/>
            <a:ext cx="4083120" cy="6705720"/>
          </a:xfrm>
          <a:prstGeom prst="rect">
            <a:avLst/>
          </a:prstGeom>
          <a:ln w="0">
            <a:noFill/>
          </a:ln>
        </p:spPr>
      </p:pic>
      <p:sp>
        <p:nvSpPr>
          <p:cNvPr id="195" name="Line 7"/>
          <p:cNvSpPr/>
          <p:nvPr/>
        </p:nvSpPr>
        <p:spPr>
          <a:xfrm>
            <a:off x="2209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 type of graph should I use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ne Graph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ot related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r Graph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mphasize individual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r Graph vs. Lin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070520" cy="2971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62440" y="3809880"/>
            <a:ext cx="403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 this the correct type of grap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501920" y="1712880"/>
            <a:ext cx="63244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s this the correct type of grap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342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onvincing"/>
          <p:cNvPicPr/>
          <p:nvPr/>
        </p:nvPicPr>
        <p:blipFill>
          <a:blip r:embed="rId1"/>
          <a:stretch/>
        </p:blipFill>
        <p:spPr>
          <a:xfrm>
            <a:off x="457200" y="1523880"/>
            <a:ext cx="8021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’s wrong with this graph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adequate (and inaccurate) tit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es poorly labeled – unit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gri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appropriate sca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3902" t="5551" r="3902" b="5551"/>
          <a:stretch/>
        </p:blipFill>
        <p:spPr>
          <a:xfrm>
            <a:off x="3581280" y="990720"/>
            <a:ext cx="442620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’s wrong with this graph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tit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es poorly labeled – unit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t well-gridded for interpret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near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badexcel"/>
          <p:cNvPicPr/>
          <p:nvPr/>
        </p:nvPicPr>
        <p:blipFill>
          <a:blip r:embed="rId1"/>
          <a:stretch/>
        </p:blipFill>
        <p:spPr>
          <a:xfrm>
            <a:off x="3962520" y="1066680"/>
            <a:ext cx="46386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9:13:08Z</dcterms:created>
  <dc:creator>Cynthia J. Moore</dc:creator>
  <dc:description/>
  <dc:language>en-US</dc:language>
  <cp:lastModifiedBy>Cynthia J. Moore</cp:lastModifiedBy>
  <cp:lastPrinted>2011-04-05T20:02:30Z</cp:lastPrinted>
  <dcterms:modified xsi:type="dcterms:W3CDTF">2011-04-12T18:07:21Z</dcterms:modified>
  <cp:revision>73</cp:revision>
  <dc:subject/>
  <dc:title>Slide 1</dc:title>
</cp:coreProperties>
</file>